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0A4-E73A-41A6-B98C-238548AA32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B0D-8893-4D1C-A6D5-B546091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976-14B6-43C4-910F-6E6E52A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676-8BF6-4844-9F54-16DF322B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974-ED67-4807-AEE9-4187A65A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D1A-0927-4395-8DFC-FB6DEDAC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4605-B55F-45FD-A5F7-1CB1E8D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0A1D-0C11-4CA0-90AB-D2F3396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0C75-A2C5-4FC7-9BBC-D2431070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2BA-FFF7-4B68-84F8-534853EA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AEF-34FF-4C30-9A31-FF88DE0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CBBC-0744-4B13-A67D-7B018B8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7DE-FA20-4C02-9753-D15ED21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0114-DE67-44F3-9BFE-2DBD3AC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8CF-A7F1-4FA5-ACD9-894DEF2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2584-FFEF-471E-B4A6-B14BA09A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083-1795-4D25-A44A-077076C8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B0A4-F7FE-4849-860C-7B8968B5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428-C065-4D3F-8205-2E88476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9C5-9864-4B77-A50D-5F1731DF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068-1ED9-4850-BC4B-7C92447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5F5-8DB7-4663-94F6-D571E50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92E-6C22-45B7-AB71-C064E58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15A-5465-457E-9408-5B19F8A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5A3-FB00-41FA-9C78-D4C6DE8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1F19-C004-421E-863A-7361C7A4F3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9BA-D963-45C4-8385-09781D689A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Arial"/>
              </a:rPr>
              <a:t>The effects of Internet on business</a:t>
            </a: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4C8-4376-47ED-8519-64204E7BF576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idely applied in business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unpredictabl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(10/05/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.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nd-don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jerry</cp:lastModifiedBy>
  <dcterms:modified xsi:type="dcterms:W3CDTF">2010-05-21T06:40:46Z</dcterms:modified>
  <cp:revision>20</cp:revision>
  <dc:subject/>
  <dc:title>Internet</dc:title>
</cp:coreProperties>
</file>